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74B-4A04-4876-95AC-CB16F019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71C-58AD-47C0-A5A8-DEA3B711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E51-76F8-4A5A-823D-0578BB9A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D5F-1E3F-4352-BFBD-86F15AAA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DC4-0D9F-4D95-B3F8-3E5B01F3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433-0B47-492E-9CE0-151C79E7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931-47AE-4C10-A0E2-E82E26D1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8A1A-6D2C-4134-9F8A-FC69BD91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78F-E3C8-4F37-8999-E5BD87C8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424-F6CB-4096-A56B-028669D9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277-0A12-4B31-92E9-252EC675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662-D3FD-4ABC-AB53-162BEFE3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A6C4-513A-4916-9534-4A92F770E74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xtec.es/rtee/europa/006es/partitura_esp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engo una muñeca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42960" y="999720"/>
            <a:ext cx="4857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Tengo una muñec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vestida de azu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con su camisit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y su canes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 saqué a paseo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se me constipó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 tengo en la cam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con mucho dol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Y esta mañani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me dijo el doct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que le dé jarab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con un tened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Teacher\Local Settings\Temporary Internet Files\Content.IE5\GSX2W8PN\MCj01002420000[1].wmf"/>
          <p:cNvPicPr/>
          <p:nvPr/>
        </p:nvPicPr>
        <p:blipFill>
          <a:blip r:embed="rId1"/>
          <a:stretch/>
        </p:blipFill>
        <p:spPr>
          <a:xfrm>
            <a:off x="7358040" y="642960"/>
            <a:ext cx="1014480" cy="192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Teacher\Local Settings\Temporary Internet Files\Content.IE5\GSX2W8PN\MCj04134560000[1].wmf"/>
          <p:cNvPicPr/>
          <p:nvPr/>
        </p:nvPicPr>
        <p:blipFill>
          <a:blip r:embed="rId2"/>
          <a:stretch/>
        </p:blipFill>
        <p:spPr>
          <a:xfrm>
            <a:off x="5429160" y="2143080"/>
            <a:ext cx="1452600" cy="1438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Documents and Settings\Teacher\Local Settings\Temporary Internet Files\Content.IE5\GSX2W8PN\MCj03590070000[1].wmf"/>
          <p:cNvPicPr/>
          <p:nvPr/>
        </p:nvPicPr>
        <p:blipFill>
          <a:blip r:embed="rId3"/>
          <a:stretch/>
        </p:blipFill>
        <p:spPr>
          <a:xfrm>
            <a:off x="6286680" y="3500280"/>
            <a:ext cx="1357200" cy="944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Documents and Settings\Teacher\Local Settings\Temporary Internet Files\Content.IE5\9F00BVRR\MCj03053870000[1].wmf"/>
          <p:cNvPicPr/>
          <p:nvPr/>
        </p:nvPicPr>
        <p:blipFill>
          <a:blip r:embed="rId4"/>
          <a:stretch/>
        </p:blipFill>
        <p:spPr>
          <a:xfrm rot="6606600">
            <a:off x="4788360" y="4539240"/>
            <a:ext cx="1503360" cy="1815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Documents and Settings\Teacher\Local Settings\Temporary Internet Files\Content.IE5\0HK6QPZ8\MPj03372500000[1].jpg"/>
          <p:cNvPicPr/>
          <p:nvPr/>
        </p:nvPicPr>
        <p:blipFill>
          <a:blip r:embed="rId5"/>
          <a:stretch/>
        </p:blipFill>
        <p:spPr>
          <a:xfrm>
            <a:off x="6500880" y="4786200"/>
            <a:ext cx="248292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Dos y dos son cuatro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cuatro y dos son seis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seis y dos son ocho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y ocho dieciséis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y ocho veinticuatro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y ocho treinta y d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Animas benditas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me arrodillo yo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xtec.es/rtee/europa/006es/partitura_esp.ht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 have a do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essed in b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th her little shi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d its frilly col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 took her out for a wa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d she caught a co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’ve got her in b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a lot of p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mor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octor told 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 give her cough medic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th a f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 and 2 are f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4 and 2 are s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6 and 2 are 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d 8, sixt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d 8, twenty f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d 8 , thirty 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t lively, blessed 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 get on my knees to p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0:58:58Z</dcterms:created>
  <dc:creator>Teacher</dc:creator>
  <dc:description/>
  <dc:language>en-US</dc:language>
  <cp:lastModifiedBy>Teacher</cp:lastModifiedBy>
  <dcterms:modified xsi:type="dcterms:W3CDTF">2010-02-19T22:13:35Z</dcterms:modified>
  <cp:revision>8</cp:revision>
  <dc:subject/>
  <dc:title>Tengo una muñeca </dc:title>
</cp:coreProperties>
</file>